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225F60A-9D23-4EF3-8102-5D4455B36CBA}"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C1193F8-6E1F-4247-B7DE-92BD4158B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35031B9-4224-46CA-A275-B9D7CAB70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57C8D-F7C2-450B-8A98-E7C19F62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4FA2-9629-441B-BD65-D41490AD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4AC74-F44E-4A8B-95CB-E03955734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76028-C3D0-4B73-B381-23E20AEDC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187A-1B61-475B-8840-08016D93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25A45-8C46-4DE6-9B82-ED0038A4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53866-18E7-4AEA-BFED-E61B00FA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58A5-9A59-486E-9CD6-350178F8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E058-F6F9-4D4E-B4CD-7428516A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4209-217F-448B-B0EC-4188EEDAA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61DE-7E85-4FCD-824F-C99B61402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1D51-F688-46CD-8399-FBADBBD95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6A8B73-3950-4858-9890-F803A1180E02}"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5C5BEA8-E3DD-431A-ACC3-777417DFF25A}"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27752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r>
              <a:rPr b="0" lang="en-US" sz="1400" spc="-1" strike="noStrike">
                <a:solidFill>
                  <a:srgbClr val="000000"/>
                </a:solidFill>
                <a:latin typeface="Comic Sans MS"/>
              </a:rPr>
              <a:t> Phonics (Double Consonants)  Write 10 words from your spelling list or from the text that have double consonants.  Underline the double consonants.  Then categorize the words by one and two syllable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ex. a</a:t>
            </a:r>
            <a:r>
              <a:rPr b="1" lang="en-US" sz="1400" spc="-1" strike="noStrike" u="sng">
                <a:solidFill>
                  <a:srgbClr val="000000"/>
                </a:solidFill>
                <a:uFillTx/>
                <a:latin typeface="Comic Sans MS"/>
              </a:rPr>
              <a:t>dd</a:t>
            </a:r>
            <a:r>
              <a:rPr b="1" lang="en-US" sz="1400" spc="-1" strike="noStrike">
                <a:solidFill>
                  <a:srgbClr val="000000"/>
                </a:solidFill>
                <a:latin typeface="Comic Sans MS"/>
              </a:rPr>
              <a:t> summer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Multiple Meaning Words)  Look up the words below and write 2 meanings for each word. Then write a sentence for each word mean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bat, watch, trip, tie)</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200400" y="4952880"/>
            <a:ext cx="3352680" cy="3659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  Categorize &amp; Classify</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group together things that are alike)</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Choose one of the following categories to classify:</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Transportation (land, air, wat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Animals (crawl, hop, swim)</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Sports (play indoors, play outdoor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descriptive paragraph.  Think of something you bought or that someone bought you.  Write about it.  Your beginning sentence should tell what you are describing.  Use sensory words (see, hear, taste, feel, smell) to help the reader know what you are describing in your paragraph.  Include lots of details.  Write details in the order that they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happene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round the Pond: Who’s Been Here?</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0:46:47Z</dcterms:created>
  <dc:creator> </dc:creator>
  <dc:description/>
  <dc:language>en-US</dc:language>
  <cp:lastModifiedBy>Mits Mits</cp:lastModifiedBy>
  <cp:lastPrinted>2009-11-03T21:29:25Z</cp:lastPrinted>
  <dcterms:modified xsi:type="dcterms:W3CDTF">2009-11-05T16:22:31Z</dcterms:modified>
  <cp:revision>23</cp:revision>
  <dc:subject/>
  <dc:title>Slide 1</dc:title>
</cp:coreProperties>
</file>